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DB6-0E33-49C2-982D-D32BD155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804-27F4-4218-883D-0C06C5F5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C08-DFE0-4519-9E27-A934012E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1B0-FEB9-49A3-A0DD-4B2524C1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BFF-AFBB-48E9-958A-48E2C72D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98A-5C8F-44E1-9842-AEFA726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09E-3D35-4853-A72E-F846D933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915-2466-4645-B944-3379AA0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1BE-1C46-4CAC-9CBE-C858F5B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D22-49FB-4D3A-A703-BA8C48E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54F-A5DE-4F28-B45F-169B26C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5EA-219C-4998-81F2-92506A1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20E-F6BA-43B9-BAE6-1787F864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mperfecto de subjun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ormac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la forma ‘ellos’ del pr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ca ‘on’    bailar  -&gt;   bailaron  -&gt; ba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añade las termin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        ‘ 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         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          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600200"/>
          <a:ext cx="9143640" cy="4723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rito e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an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e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3760" y="1781280"/>
            <a:ext cx="32925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71600"/>
          <a:ext cx="3208320" cy="5181480"/>
        </p:xfrm>
        <a:graphic>
          <a:graphicData uri="http://schemas.openxmlformats.org/drawingml/2006/table">
            <a:tbl>
              <a:tblPr/>
              <a:tblGrid>
                <a:gridCol w="1584360"/>
                <a:gridCol w="16239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duci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du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i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ic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us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ud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r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is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u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e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j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n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n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74680" y="2774880"/>
            <a:ext cx="8047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9720" y="2743200"/>
          <a:ext cx="3504960" cy="1752480"/>
        </p:xfrm>
        <a:graphic>
          <a:graphicData uri="http://schemas.openxmlformats.org/drawingml/2006/table">
            <a:tbl>
              <a:tblPr/>
              <a:tblGrid>
                <a:gridCol w="1930320"/>
                <a:gridCol w="1087560"/>
                <a:gridCol w="244440"/>
                <a:gridCol w="2426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r &amp; S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er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nt on vacation, I would go to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re rich, I would buy an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buy an airplane if I were r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yo ____________ (tener) el dinero yo _____________ (comprar) un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Carmen ___________ (buscar) un trabajo, ____________ (querer) ser una enfer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__________ (estar) muy feliz si Uds. _____________ (sacar) buenas no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ú ____________ (divertirse) si ____________ (ir) al carna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6:22:27Z</dcterms:created>
  <dc:creator>jbarber</dc:creator>
  <dc:description/>
  <dc:language>en-US</dc:language>
  <cp:lastModifiedBy>jbarber</cp:lastModifiedBy>
  <dcterms:modified xsi:type="dcterms:W3CDTF">2009-06-01T11:25:39Z</dcterms:modified>
  <cp:revision>6</cp:revision>
  <dc:subject/>
  <dc:title>El imperfecto de subjuntivo</dc:title>
</cp:coreProperties>
</file>